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90561"/>
        <c:axId val="80877867"/>
      </c:barChart>
      <c:catAx>
        <c:axId val="74990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7867"/>
        <c:crosses val="autoZero"/>
        <c:auto val="1"/>
        <c:lblAlgn val="ctr"/>
        <c:lblOffset val="100"/>
        <c:noMultiLvlLbl val="0"/>
      </c:catAx>
      <c:valAx>
        <c:axId val="80877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90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EC9-05FE-4309-B7D7-A3540CF4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A62-9A04-4640-B0AC-CDB30464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E6D-521E-4A0F-BB80-41EABC80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C72-92B3-47A0-A159-5D102626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3EA-365A-481A-92E8-B96B8E98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4FC-CB73-4F8F-897A-EDDF206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692-AB2E-435C-9093-176F153E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F9C-1EF4-4B35-AC1E-8E5039AE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AF7-3A6B-4484-B5FB-CD16FBE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1EB-E2F8-45FD-A73B-88A7DE4C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AB8-81B0-4751-B85E-A23B655B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5C9-C57E-49D8-88CC-CF245A3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C45D7-6E43-49C0-B8CE-B4F008AE9F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