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698045"/>
        <c:axId val="83097023"/>
      </c:barChart>
      <c:catAx>
        <c:axId val="806980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097023"/>
        <c:crosses val="autoZero"/>
        <c:auto val="1"/>
        <c:lblAlgn val="ctr"/>
        <c:lblOffset val="100"/>
        <c:noMultiLvlLbl val="0"/>
      </c:catAx>
      <c:valAx>
        <c:axId val="830970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6980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6949-01ED-4E8B-BD14-E9DCB0D9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A94F-AC55-4A2B-9C96-B609FFC27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88EA-E43D-415E-B3CD-321B7623B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A2D-3667-42D1-91D1-56CC249D8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3426-8B8A-4F6C-A62A-4A2916E0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25C5-9372-49BC-9799-1EC90D8C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DE64-97DB-4B6B-8DE1-9C7F2834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9677-D1F5-4CE0-B696-0D0869C5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15D-781C-484F-A5A9-0759BAC79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4D6-6C96-4E38-B001-67185BA9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8255-8A70-420A-A251-81310F67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D826-93E0-4E6E-8E40-390FE861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DE98E-2A2A-4053-87C2-BCB36A4F7C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