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68816"/>
        <c:axId val="2053990"/>
      </c:barChart>
      <c:catAx>
        <c:axId val="48168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3990"/>
        <c:crosses val="autoZero"/>
        <c:auto val="1"/>
        <c:lblAlgn val="ctr"/>
        <c:lblOffset val="100"/>
        <c:noMultiLvlLbl val="0"/>
      </c:catAx>
      <c:valAx>
        <c:axId val="2053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68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F18-8FEA-4B88-AD72-4887F941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6FB-8E61-4EED-9490-7DA9DCB6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8FD-2EE0-435C-B787-E242B515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DE9-1180-4D69-A43C-66E0F0A4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BF8-1D5E-4415-8B71-090BF3F5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E6D-CC38-46D3-A8FF-F274183A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8F2-60F6-49F1-8DF1-6699FFAA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460-A37D-4A03-B602-969238FC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D5B-6C66-49A8-A36F-ED90DDB6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C08-CBE1-499A-9098-6298DFC4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5F6-AC38-487A-9160-A505E55D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05E-4E24-448E-83DD-A7BAD597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E6682-0552-436C-BE51-9C64D301FC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