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03884"/>
        <c:axId val="40515071"/>
      </c:barChart>
      <c:catAx>
        <c:axId val="42303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15071"/>
        <c:crosses val="autoZero"/>
        <c:auto val="1"/>
        <c:lblAlgn val="ctr"/>
        <c:lblOffset val="100"/>
        <c:noMultiLvlLbl val="0"/>
      </c:catAx>
      <c:valAx>
        <c:axId val="40515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03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36C-A865-4619-9C96-452337A4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43C-F13F-4209-AC93-731BD1AC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D36-8273-4F80-AE1F-A3B8424F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20E-9BE6-4673-9E34-6F681C1B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540-6CA8-41AD-B3F5-A728598F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09B-F2B9-49CB-AD17-9B3E26A4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DE3-FAAB-4B49-9C52-F3AC6C0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DEC-715A-45A9-A91B-7873DD95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A69-EAE2-4D98-90AB-FE11EFEA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7AD-D071-423F-994F-67055E15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6AB-1D10-46AB-BC83-5DABCE78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9E1-467D-4135-B66B-D1ADB21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42466-301E-4641-B4AB-03C0984869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