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152135"/>
        <c:axId val="68248797"/>
      </c:barChart>
      <c:catAx>
        <c:axId val="131521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248797"/>
        <c:crosses val="autoZero"/>
        <c:auto val="1"/>
        <c:lblAlgn val="ctr"/>
        <c:lblOffset val="100"/>
        <c:noMultiLvlLbl val="0"/>
      </c:catAx>
      <c:valAx>
        <c:axId val="682487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521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80C-3451-4539-8508-7EF2DA0D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94F-0614-4595-81AB-27E5919F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495F-A2B2-4CD3-AF18-37123E06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BAA8-424E-4134-8DD3-B4D08A0AC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B6E-2E42-4692-8846-D000A3B3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A904-648B-4A0B-A1A2-69C12CBE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BAE-A3E9-4F19-A0B0-707AF5D8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572-7964-4188-B209-AF92EAF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0FE-785B-42B9-9013-AF332C96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4C8E-61A1-4FF9-84DA-57DCD6CB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CFC-5DD7-4EA0-8520-49BDB0EC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884-ADCD-4F15-937C-5F289B9E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EF250-8EBE-4B6D-9C44-6FBC1936C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