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5757"/>
        <c:axId val="93218983"/>
      </c:barChart>
      <c:catAx>
        <c:axId val="5257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218983"/>
        <c:crosses val="autoZero"/>
        <c:auto val="1"/>
        <c:lblAlgn val="ctr"/>
        <c:lblOffset val="100"/>
        <c:noMultiLvlLbl val="0"/>
      </c:catAx>
      <c:valAx>
        <c:axId val="932189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57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61F3-2593-4A57-AEA6-1A1BFEBA5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AB90-54BA-477D-A598-91ACBCFC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3C98-DC62-44E6-A366-90BA08A63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0B38-3C74-4A0A-8626-58F590FD3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76F9-4F39-44E2-B1A3-E8019110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F2BA-0EDB-4799-B7E3-C826461B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F2CE-4AA5-4A3F-AF11-35704C09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FD0C-1D33-428E-A246-845254C4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09D0-BB3C-41A1-B36A-2E4A797C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0027-D059-4494-814A-5DB94A86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576F-9072-428C-8DB5-5A6A4A21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80B8-61FC-4BCA-B073-04355111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3C062-F030-4587-B346-69196802D4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